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2.wmf" ContentType="image/x-wmf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20.wmf" ContentType="image/x-wmf"/>
  <Override PartName="/ppt/media/image5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</p:sldMasterIdLst>
  <p:notesMasterIdLst>
    <p:notesMasterId r:id="rId35"/>
  </p:notesMasterIdLst>
  <p:sldIdLst>
    <p:sldId id="256" r:id="rId36"/>
    <p:sldId id="257" r:id="rId37"/>
    <p:sldId id="258" r:id="rId38"/>
    <p:sldId id="259" r:id="rId39"/>
    <p:sldId id="260" r:id="rId40"/>
    <p:sldId id="261" r:id="rId41"/>
    <p:sldId id="262" r:id="rId42"/>
    <p:sldId id="263" r:id="rId4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notesMaster" Target="notesMasters/notesMaster1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slide" Target="slides/slide5.xml"/><Relationship Id="rId41" Type="http://schemas.openxmlformats.org/officeDocument/2006/relationships/slide" Target="slides/slide6.xml"/><Relationship Id="rId42" Type="http://schemas.openxmlformats.org/officeDocument/2006/relationships/slide" Target="slides/slide7.xml"/><Relationship Id="rId43" Type="http://schemas.openxmlformats.org/officeDocument/2006/relationships/slide" Target="slides/slide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 type="dt" idx="83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5"/>
          <p:cNvSpPr>
            <a:spLocks noGrp="1"/>
          </p:cNvSpPr>
          <p:nvPr>
            <p:ph type="ftr" idx="84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PlaceHolder 6"/>
          <p:cNvSpPr>
            <a:spLocks noGrp="1"/>
          </p:cNvSpPr>
          <p:nvPr>
            <p:ph type="sldNum" idx="85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9BC5-0DB1-45A4-BDFA-64E13499F0B2}" type="slidenum">
              <a:rPr b="0" lang="en-Z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013F-9246-494E-8CC2-DDD943D08453}" type="slidenum">
              <a:rPr b="0" lang="en-ZA" sz="1300" spc="-1" strike="noStrike">
                <a:solidFill>
                  <a:srgbClr val="00389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F993-503A-4D45-A4B4-05D95DE10EE4}" type="slidenum">
              <a:rPr b="0" lang="en-Z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79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1C27-CCA5-46AC-BB91-CC5A37263FDF}" type="slidenum">
              <a:rPr b="0" lang="en-ZA" sz="1300" spc="-1" strike="noStrike">
                <a:solidFill>
                  <a:srgbClr val="00389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1586E-04AA-4726-BDB4-9AFD370024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9D55C-1A74-49D9-8F8E-FBE04975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4E64C6-F708-46AB-A014-7A3ACAEB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0CB5E6-EBE0-4B4E-9826-1BD27F02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5F983F-7BD5-4B6A-BF0C-CDAD902B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FA0FE4-3A67-4802-BC58-F976D774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E800CD-C315-4C78-A2C9-4E58E77A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CB758C-BA94-4B11-8FE6-BC434CB5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0401D0-4061-4B10-9429-314C1A0C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36C9C4-A126-437B-82C2-67DDA2303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128B53-F985-403D-BFB3-954EAF029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41AD25-186F-451D-8F35-AC502BB0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D1D39-333C-4846-95DC-F6C97016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471FFC-872B-4009-AA7D-50A2E01D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992BDF-5FBF-4335-9A15-CE0546CD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B34BE8-8E2B-455B-B411-69C8C1EC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F98737-C760-45B3-8DA3-62CACD02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BE8810-F8FE-4F11-83C9-74D752AD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6A74FF-A19A-4899-B991-1075D023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D00E05-EAD9-4875-BC98-01333B52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DA2A5D-452C-4BA8-BF05-0094F6AF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7EAFD0-F844-490D-9B3F-4037ECCC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FE5E8E-0654-4938-B91F-ACC04D3F0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38EAB-0C74-44DE-9AC9-C80DBBF8E8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8096D7-45E1-46A5-9D8E-A5122C6BB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BEE6C5-3314-4379-9656-F9FA38DB7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3CF05D-F0A5-453C-AD5A-68C36DEE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B34234-A913-4A06-9399-92107FC1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5E1898-8303-4994-A962-17730BFF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3AEB78-059B-4E3D-8363-D6AFAD7B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73D80D-6FAA-406B-92C6-E9195591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56F7BF-F4E3-4393-949B-620C1B13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DD6AA1-B95D-48B2-8318-59D737A3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DBAF66-8BAF-47FA-8EE5-A449CF31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FCCB0F-B38E-455D-BD90-AA551F40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4F652F-1130-4FE3-85E6-F4D63F87A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E76C20-6D12-41AA-8645-407101494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EAB351-7B2E-4C12-B21A-BA0834979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63978F-7360-4605-8BA8-6A0CB657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F7C1B4-C2D3-4B54-BDDC-726EDAD1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6901CD-EE32-49FC-A8D9-62516F1A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C7C7A1-3046-41AB-9409-01B9CDDC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9996EB-F82F-4F79-B719-390225E5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80007F-1E21-4AB3-927C-BE4E5E33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C2E49F-E3D8-46CA-8747-00E0FCFF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DCFABC-027D-4879-9361-F6D6989C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E6D41D-7551-463E-B966-C9953495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3DAF8C-AC3C-4D73-BD84-660C5551D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DBB9FE-9BF7-40F3-94BD-8F0CF9BB5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15ACF3A-8952-4E94-ADB2-8CBF91776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D56D6D4-4B15-4D60-B23B-3BE4FB6C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F1E1E0B-523E-40C9-8357-9052A338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A3D363B-3146-4E0D-905E-08129534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00D96CF-9940-4D91-AF53-CB3A80EE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93B87F9-44BD-4806-82D0-C46DBB5B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8B26484-8F92-4177-8F3F-7FAABC06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D72B188-9EF1-42EE-A572-775EE1B5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C6C40AA-2D35-4D30-983D-7105213E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9C36EC1-D1C0-4310-8AB6-3F8F15CB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A47DBE0-264B-4E92-A795-34119BA2B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BD1701F-0882-405D-8912-01EB0BADA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7BD487-149B-4514-8E58-5BC6B4EBD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207DA9-D472-4013-833D-A0D2941E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FE1595-DDB1-42B1-9E23-C38392D8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6D655A-CBFB-4DC2-9D72-62666777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11D5C9-126F-40AA-ABF7-C4790815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4F9EB5-063D-4716-BEDD-C457E515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CC96EB-C3DA-472F-8B8B-CFF9893A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A397EB-CD2C-4D23-B535-AC6FCFA4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EBB4F0-2D21-4B97-9AF8-2C89A704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48477E-9F89-4265-A3FE-C7900401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6281D7-D318-4342-A073-A21A207C5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D0F247-326F-4B93-80AA-8ECD14E9A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7C6A145-87DF-4ECA-9865-69E6CA3B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ED43166-39DE-4D27-A77A-64460D30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BCBA787-ACAB-4D1B-8476-FD944561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1A0FB78-A438-4C4D-8710-8FAA1F5C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5104D74-51A0-4E4D-9073-076FC160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238EE40-D9C8-4B0D-B5A0-A363F856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5CA9033-66AD-4359-915E-F966FBD1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EDE767F-1697-4D81-BAB4-DB5C7766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4C2FBEB-3542-465A-8204-F588A93A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57C68F5-80FA-4C0E-8EDC-E4017758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F5DB672-704A-4FE3-AD6A-97929C254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9A5D951-03D9-4121-8B4A-B737779EF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4FD0BBB-B419-4108-961F-D1555A616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55A8BC3-E6D3-4234-B01B-3832CB7C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1D20B57-09EB-4D53-B757-A405F77F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41BB8D5-428E-4F03-84F4-D98CADBC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FCE0439-D700-490D-8614-636763B3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58C80BC-2131-4E2F-BFB2-D697AF2A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5D7FCF2-06A5-4CCB-818F-605C1212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8A5A262-2C65-4127-B9EE-7F6A30C2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1D99CB7-1859-410E-87AB-CA7B59FD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E00961A-D85C-4681-B804-B1464FA3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90E2FF3-2489-460B-A345-163E8E2A2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72F2842-83CD-4030-A092-02F4201E9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AA3E823-9C21-4C4E-8A2A-8E68727D2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8CA996A-FB4D-4262-9645-4CEF42E0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1EA7792-C12A-48CE-99BC-B935AD46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9FAD412-860C-457B-AC0C-7D98B6B0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ED5DC38-22C8-4C2C-9F5F-7CE74F84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BFE1620-A63C-4E36-856A-4782C0D3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632B135-8F3E-4DAC-961A-D36B53D6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74CD2-7979-48A4-8DB0-6BE109DC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72D75D7-D615-4EA3-AA79-81750DEB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6D2EEE2-FB2C-4A5F-9D6C-1F9B51E1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7B68375-AB86-4BF5-968C-9DE17004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E2306E6-A3B4-4E89-BD54-CDCD21705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71E863B-4A71-40D5-9E7B-46AE390BE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15D03D1-EA6F-40EC-94D5-3C99CB313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74BD4C8-26D5-4EF2-A8E6-24E36442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292E4E4-D60D-48CA-94AF-CE567940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48165E0-42E2-41D8-96E9-A79C666C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15D1C25-206B-4002-94A5-665E704C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4A5FDD0-7A3E-47E9-84A7-07F35516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5612B63-CBC0-4AF3-908A-032446B5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1AEA4C6-A812-4B35-84D9-9570DB70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4C78FC5-BAB8-427A-9745-0045CBE7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09A46DD-3EE3-4DEC-AC6B-FECF856A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AD61E10-894A-4556-BCAA-629E34CFA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B1EFC92-F24E-4A4F-B2E8-4862CAE39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7F03B02-5EDA-42DE-901D-E5A248860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4CB59F9-4003-4094-847E-39FBF61A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BB6CE5F-00A2-4A1F-91A1-33C88E38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124E137-8431-4949-93A4-E6BA0429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1C13B2D-3905-4791-83AC-A1CDC02D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A063312-3817-40B5-BDCA-2D808414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A34655E-FF37-4E08-8969-31D146F7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20C885F-0074-4AD4-B1B0-D477C66F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9BA50E2-D590-47D1-84EA-082D6EA2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D8C49-332B-4D8D-BABC-8A85A5392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03A339D-969E-4766-9E82-AA205CB9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624F569-ABFE-4A89-AC6E-F068C024F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36A3F44-8C48-49A7-A060-80779AABE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73BB63-46EF-4AF2-A2F5-7A91A28B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2CE7FAA-7D86-4340-8C63-EE193B259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2024763-BC92-426E-B0D5-B653D3A8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F86BB1E-4784-4850-A191-2ADCEB73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11E61AA-F73D-4612-8A0D-8567B415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81CB67F-4B75-4FDC-9757-DDFC8D1A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FD56B-E96A-400F-B51E-FB23EBE7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FF725B1-A90E-42E1-A974-B5FE72DD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CD345AF-642D-4EF4-BBDC-2EB3C0F9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EC37814-6819-4BB7-A8FF-64D92B0C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AB9488B-618C-479D-89A5-D81A83E5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54EA4E8-8E72-4B8F-B95B-BAF042D1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318E1C5-756D-4D0F-931C-2216F03C2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BE62B96-000A-4336-8FA0-3C3818BFA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BCF8963-47B6-4E7D-9189-845ABCEF2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70539A2-D567-447A-B34D-9DC2358B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43DD3C6-A4D2-4DFA-BE4F-90609947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D33FB-8EB6-43A2-B4C0-E9B535C3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0D69C07-876B-4802-9710-80240F47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7EEB8B5-6363-46B6-8169-36C1A4FC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F8C3BE7-C11F-4DC5-A586-4483B2AE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0BE60AE-A5F1-4381-A892-C5397C03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A02E61A-6223-4D2F-A980-65753956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E744D8E-2349-4E55-A41C-70554C19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6C6EEB3-99DF-4BF3-BA56-790447D8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24A2D2B-D44E-4271-82FD-513B1C24E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E6E41A0-3A2B-4E1B-ABA0-64C6EB33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7012907-EFEE-45F7-A068-6917D2BF2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94A16-E2A8-4743-8BB3-D5A02D0E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3E21B09-12E9-4F33-8769-D89F428E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928C903-F572-474D-9CF6-E81B2F3A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993F314-2C1E-489A-9046-C8FEE2C0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235F12E-422E-41C0-A9F7-B281A84A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17C9421-5FFF-482A-B606-009591A6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0237704-F922-438C-ADAE-3F849FC4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DA338A6-AE2D-4BF8-85D4-56D50E1A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F6765FA-45F9-47D9-A633-A9931461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0470B71-7C93-4D16-845E-44CEF72B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0C3C0A7-F663-4F70-A157-2A31F12D4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FCE39-DA7F-4F80-9D19-7EDA3245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DFECB-CDF8-404A-B6DE-0E324A99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3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3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3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D3873E0-89CB-4BF5-BB2E-3FFC67351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D284CB9-5E24-4100-8A49-A21BF84BD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70A7247-F2A4-4027-B0FC-36141B7E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B54CAA2-2FB3-49AB-8A0A-0FFE4C84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F5A3ADC-1B96-4D84-B22B-D5669226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D4C5820-12A2-40DA-A689-929C0EE8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AD5EF4A-CC4C-4DDD-960D-3B70914B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C193D3F-742E-4979-A0B7-A44A9CE1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CE79531-9C59-4050-8473-651C9BC0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D659E34-E4F2-487D-817D-ABEE0669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0D7458-98E8-4CA7-B6E6-CA4827AD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ED9D419-87AE-47B4-A1BE-402579B9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DE20C40-C557-4971-BC9C-C46864FA8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2AC9D1F-3E98-4343-AA55-80755D215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4375E88-6CCB-457D-AE92-762C21406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789BF27-D8D7-4B98-BA63-40C6483D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7C40EDF-B21F-45B0-9819-6487F7DA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BF8788E-B39A-4CAA-AF16-5D757596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38451AF-76B0-42D6-8F5A-F73E6331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F95A954-8A22-4300-A56C-0C2B8CCE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83DF0B2-608D-4BD8-8F68-51D0FAAC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8F26D-D1F7-408C-B709-E47D08EE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6CBB6DA-9CDB-4AD3-881C-99F1BED7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D8610C3-2B4A-4001-833D-3501F292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180412F-FA2C-4524-835F-7EE623E8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1030BF1-E3BE-4CFC-B80A-8DE647BD5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2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2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AFF91A6-0E4A-4948-B2A6-F1788213B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5F1E1D4-A5E0-496A-8E2B-EC44DA2D6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BB722E3-6929-4DFB-A67C-A11C7BBB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7AD66B5-C4C9-42E9-810B-CD7661A8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90BE8DC-208B-43EA-BBF5-B17ED0D5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7332D82-91AC-42C7-9AC4-80D7DC92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5A3C1-6884-476D-92A7-B9405646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355FC66-61F6-44B7-95DD-7228AE8E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ACA0FB7-8759-4CC2-8F21-F6030CB7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1943D11-37F4-413D-A5B5-475F75DC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D577CA1-D865-48AD-878F-B06E8F6E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2DE4A2D-CCDD-49AF-8D74-3791E1BE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45FA2F4-4B97-4759-A81E-3DF8B396F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04235BE-6CFD-48B9-AB71-B4975E3A0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98EAA94-ACD7-429B-B2D3-9A62BA34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C28BA2D-6AFA-41F3-906F-7791CA30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4B5368B-90EE-45E2-8101-264E4D34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5B3C2-0EF3-4EF3-8A8C-DEB845A0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EF236F2-E098-4801-A54F-211A75BD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ECDFBEF-C9F1-4513-B97B-9359CC89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2FED8DE-AFC5-4AA7-AB93-B005159F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DD2B364-F8DE-441B-9AE7-FC219AE3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6D784B8-7A53-4C5D-B3A9-A2E255E7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681E7BC-A570-437D-8AF9-795B1F00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3E22BB7-DBE7-42E0-A9B7-9BFF361B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1ABB87A-F731-4E53-A905-06360D826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811CE9F-E365-4429-9C90-58867C504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F77A8E7-2B4D-4826-9500-1CEE56F8C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EB12F-435C-4850-B3F6-70494374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6BC69FB-65C8-4388-B23E-F5B88848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0673F0B-3CE6-4F8D-9DAE-AFD19CC7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3C849A2-4106-4A11-BD73-A1A77746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191C9A1-A6E4-44F7-A78F-18AEFD99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60F9CE7-569D-41B2-869A-9DC054EB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946F080-0177-4BCF-BBB4-80C3FA28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2C7D4AE-7E91-43C2-9BF7-B021F26E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5A84AFC-4F50-4751-817C-79B87E1B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171ACAD-C201-4581-8584-DF553DF8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163A3DC-A385-4B27-9B6C-9BAB447E6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2579A-C761-4666-9857-7677CCFCB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2F59715-FBA9-47E8-A5F5-111E39108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D22CAF7-2093-4E85-B413-4EE2A9437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F8FC81C-1E8B-4CB9-A7F9-5745509F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A55AF73-B870-4FA2-A3B7-81084DDF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6FADC33-E80F-4BF8-B0AE-00A96C89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278E7DA-F051-4A0E-BF7F-123D8E63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450E928-AE2B-4CE5-A0FB-1F54FB22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CC82889-DFE9-4C97-8075-45EBEA77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4B94F35-C404-4E67-9700-AD4CDCE0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5929F9B-9A36-4ECB-897A-85166DC3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5D2A89-BCFA-48A6-A712-5F9FB370F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5A9F496-ECD9-4D2B-80FC-3598A564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5D075C9-4CFD-4213-8041-4F4F102DC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5E91C1D-033C-4DFF-BE87-55A8A32C5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B86AABB-113D-4047-8DDF-D8A889E4E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2B65225-4B36-40FB-A8DB-869831E8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AD7D65D-8C87-4AEF-B061-3ABE66CB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517B45B-95D5-43F7-A593-A65F0948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82B881D-E629-49F7-805F-C39037F3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087A4E6-DAD3-4342-AA37-8E1AA13F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20DF544-36AC-415E-8BBB-7BE30C16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4BE224-7553-4D42-BC8A-1ECC1141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6AF86BF-F23E-4C5F-8507-7DBF3BF1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929C15A-77F9-4749-895A-A4A6F4E9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28A9538-A949-4EC7-AE80-4EA3E900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57476F6-6937-4428-BA8F-9F1256533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4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4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72E9612-78FD-43AE-A044-1BC1AAC3F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25A8766-AB07-4128-A511-5C01424E8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BBCEC3F-8C7B-487A-B44B-806A0C28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517B0AA-0E1A-4F08-88B0-78699B29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CF9FC48-5F1D-4817-A2BF-DDE2430E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24CDFD2-D229-4987-9655-F818D5DD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DC698A-3933-4C5E-BE80-C132A1E7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594F858-C23B-429C-BF01-22323AFB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274EB06-6166-4F7A-B253-0A1111FB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1B0FCFB-A7A0-4320-A021-054C9E1A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583F576-7C33-435A-882C-C4C11BCB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8E7202B-87A1-4CAB-BF9A-7FE4BE03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0DC60FB-A37F-4A22-9C6C-6349A6746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5BA523B-8F34-49CB-8D2E-94FAB3C96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12C79-BE9B-4CFE-8412-06835456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9254F4-5042-4A7F-AC04-7C6E5D2B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4097E4-8FA5-47D5-9C1F-8BF4EA97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8EEBB0-4EB2-4199-9265-0B96DFFD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22D828-A09A-4218-B0B0-220B0F7E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FCAF87-82A6-4B44-ADB5-21AEA0C6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E9F710-93D5-4199-B515-90C2E6C9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70F51B-A7CA-4C2C-96D7-6BF1DCBE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ED7EC3-4F74-4E39-A9BA-AC898052F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1898D5-093B-4AF0-9D02-C94CCD52A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DAEBD5-3BEC-459F-A3A4-6F30353437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7A22D-36BE-4FAF-821A-3D3AA622D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2C45B9-E094-498E-85AA-EF5F98D4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111F72-1E4E-4D25-9A94-6C209A15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BE2123-149D-4CD6-8AF7-EF2A01BA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624DE9-7679-417F-9DF0-32F93EBB6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013E8D-A0FF-4447-B91E-0A4825F22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F4260E-B878-4CFD-8BB2-6EA99BC0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799112-131A-4F9C-A2B7-5E9637FF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4EDB81-273A-4BBB-B4E3-DA15E835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DF0439-96FA-44D4-8B49-33CBED26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13E425-8CEB-4F8E-AD7B-DCF32C40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512A8-C70B-4BBC-B762-87C31C1F4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4BC432-1E14-41E6-AA7C-8D4F35F913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540514-4558-495D-83BB-9A3E1F5B1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B00203-2342-44BC-88CF-4EC89C2B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CF6C4E-527B-4C65-BD50-07FF0926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8F8A4D-D8B1-430D-A594-03B72273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6628F2-294B-42C7-AD33-9364E7A3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9E7BB1-3B72-4488-9A39-B708E7AF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8E9BD9-2552-46A5-AB77-C83E71B5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000F29-2CC3-4369-BDF3-7891BB79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A94569-AE89-4C61-A55B-2167D0D8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2C1B5-C542-4701-8A8D-D4943608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6028FA-F67D-488A-8596-DF824FE1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B29709-B7C5-4966-B0F8-0CA5B0B72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C54B68-EDFE-43C3-AD81-F8D2D6F09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7E809-D5D9-40A3-B5F8-57D51044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99AA70-ED16-426B-B5A3-F675281FF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8FFF2B-5EF8-43F6-808D-C73FBB0E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1CE899-0541-4800-B8B8-18172BFA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823014-0A6A-41C4-9B2C-093FD717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7B960D-CDF1-482C-9201-13B1459A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096A4-C73E-4C30-A465-DF5B7FFA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063EEB-B2DE-4ED3-9EB7-B6FC9FDC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6532B5-147E-42E5-B2EB-AF26B5F9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C8958F-E489-4D8A-9E10-641C7DEF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102DB3-C988-410C-BF2D-F5EC76CD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C760FB-5B46-4918-99FE-793519C1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0D54B6-40D3-4888-B3F0-19718F006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4D32BC-4700-4426-A9A5-FEE86A2A3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F5A7FD-F8C5-4C67-BF8F-FC2BAC5C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8B55FF-1E1E-4CBC-86A6-3D33FA1F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9419C5-1C43-44A2-848A-0DD8BB28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1.jpeg"/><Relationship Id="rId3" Type="http://schemas.openxmlformats.org/officeDocument/2006/relationships/image" Target="../media/image5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217.xml"/><Relationship Id="rId9" Type="http://schemas.openxmlformats.org/officeDocument/2006/relationships/slideLayout" Target="../slideLayouts/slideLayout218.xml"/><Relationship Id="rId10" Type="http://schemas.openxmlformats.org/officeDocument/2006/relationships/slideLayout" Target="../slideLayouts/slideLayout219.xml"/><Relationship Id="rId11" Type="http://schemas.openxmlformats.org/officeDocument/2006/relationships/slideLayout" Target="../slideLayouts/slideLayout220.xml"/><Relationship Id="rId12" Type="http://schemas.openxmlformats.org/officeDocument/2006/relationships/slideLayout" Target="../slideLayouts/slideLayout221.xml"/><Relationship Id="rId13" Type="http://schemas.openxmlformats.org/officeDocument/2006/relationships/slideLayout" Target="../slideLayouts/slideLayout222.xml"/><Relationship Id="rId14" Type="http://schemas.openxmlformats.org/officeDocument/2006/relationships/slideLayout" Target="../slideLayouts/slideLayout223.xml"/><Relationship Id="rId15" Type="http://schemas.openxmlformats.org/officeDocument/2006/relationships/slideLayout" Target="../slideLayouts/slideLayout224.xml"/><Relationship Id="rId16" Type="http://schemas.openxmlformats.org/officeDocument/2006/relationships/slideLayout" Target="../slideLayouts/slideLayout225.xml"/><Relationship Id="rId17" Type="http://schemas.openxmlformats.org/officeDocument/2006/relationships/slideLayout" Target="../slideLayouts/slideLayout226.xml"/><Relationship Id="rId18" Type="http://schemas.openxmlformats.org/officeDocument/2006/relationships/slideLayout" Target="../slideLayouts/slideLayout227.xml"/><Relationship Id="rId19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image" Target="../media/image7.jpeg"/><Relationship Id="rId12" Type="http://schemas.openxmlformats.org/officeDocument/2006/relationships/image" Target="../media/image8.jpeg"/><Relationship Id="rId13" Type="http://schemas.openxmlformats.org/officeDocument/2006/relationships/image" Target="../media/image9.jpe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1.jpeg"/><Relationship Id="rId3" Type="http://schemas.openxmlformats.org/officeDocument/2006/relationships/image" Target="../media/image5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229.xml"/><Relationship Id="rId9" Type="http://schemas.openxmlformats.org/officeDocument/2006/relationships/slideLayout" Target="../slideLayouts/slideLayout230.xml"/><Relationship Id="rId10" Type="http://schemas.openxmlformats.org/officeDocument/2006/relationships/slideLayout" Target="../slideLayouts/slideLayout231.xml"/><Relationship Id="rId11" Type="http://schemas.openxmlformats.org/officeDocument/2006/relationships/slideLayout" Target="../slideLayouts/slideLayout232.xml"/><Relationship Id="rId12" Type="http://schemas.openxmlformats.org/officeDocument/2006/relationships/slideLayout" Target="../slideLayouts/slideLayout233.xml"/><Relationship Id="rId13" Type="http://schemas.openxmlformats.org/officeDocument/2006/relationships/slideLayout" Target="../slideLayouts/slideLayout234.xml"/><Relationship Id="rId14" Type="http://schemas.openxmlformats.org/officeDocument/2006/relationships/slideLayout" Target="../slideLayouts/slideLayout235.xml"/><Relationship Id="rId15" Type="http://schemas.openxmlformats.org/officeDocument/2006/relationships/slideLayout" Target="../slideLayouts/slideLayout236.xml"/><Relationship Id="rId16" Type="http://schemas.openxmlformats.org/officeDocument/2006/relationships/slideLayout" Target="../slideLayouts/slideLayout237.xml"/><Relationship Id="rId17" Type="http://schemas.openxmlformats.org/officeDocument/2006/relationships/slideLayout" Target="../slideLayouts/slideLayout238.xml"/><Relationship Id="rId18" Type="http://schemas.openxmlformats.org/officeDocument/2006/relationships/slideLayout" Target="../slideLayouts/slideLayout239.xml"/><Relationship Id="rId19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253.xml"/><Relationship Id="rId9" Type="http://schemas.openxmlformats.org/officeDocument/2006/relationships/slideLayout" Target="../slideLayouts/slideLayout254.xml"/><Relationship Id="rId10" Type="http://schemas.openxmlformats.org/officeDocument/2006/relationships/slideLayout" Target="../slideLayouts/slideLayout255.xml"/><Relationship Id="rId11" Type="http://schemas.openxmlformats.org/officeDocument/2006/relationships/slideLayout" Target="../slideLayouts/slideLayout256.xml"/><Relationship Id="rId12" Type="http://schemas.openxmlformats.org/officeDocument/2006/relationships/slideLayout" Target="../slideLayouts/slideLayout257.xml"/><Relationship Id="rId13" Type="http://schemas.openxmlformats.org/officeDocument/2006/relationships/slideLayout" Target="../slideLayouts/slideLayout258.xml"/><Relationship Id="rId14" Type="http://schemas.openxmlformats.org/officeDocument/2006/relationships/slideLayout" Target="../slideLayouts/slideLayout259.xml"/><Relationship Id="rId15" Type="http://schemas.openxmlformats.org/officeDocument/2006/relationships/slideLayout" Target="../slideLayouts/slideLayout260.xml"/><Relationship Id="rId16" Type="http://schemas.openxmlformats.org/officeDocument/2006/relationships/slideLayout" Target="../slideLayouts/slideLayout261.xml"/><Relationship Id="rId17" Type="http://schemas.openxmlformats.org/officeDocument/2006/relationships/slideLayout" Target="../slideLayouts/slideLayout262.xml"/><Relationship Id="rId18" Type="http://schemas.openxmlformats.org/officeDocument/2006/relationships/slideLayout" Target="../slideLayouts/slideLayout263.xml"/><Relationship Id="rId19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0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3.xml"/><Relationship Id="rId6" Type="http://schemas.openxmlformats.org/officeDocument/2006/relationships/slideLayout" Target="../slideLayouts/slideLayout374.xml"/><Relationship Id="rId7" Type="http://schemas.openxmlformats.org/officeDocument/2006/relationships/slideLayout" Target="../slideLayouts/slideLayout375.xml"/><Relationship Id="rId8" Type="http://schemas.openxmlformats.org/officeDocument/2006/relationships/slideLayout" Target="../slideLayouts/slideLayout376.xml"/><Relationship Id="rId9" Type="http://schemas.openxmlformats.org/officeDocument/2006/relationships/slideLayout" Target="../slideLayouts/slideLayout377.xml"/><Relationship Id="rId10" Type="http://schemas.openxmlformats.org/officeDocument/2006/relationships/slideLayout" Target="../slideLayouts/slideLayout378.xml"/><Relationship Id="rId11" Type="http://schemas.openxmlformats.org/officeDocument/2006/relationships/slideLayout" Target="../slideLayouts/slideLayout379.xml"/><Relationship Id="rId12" Type="http://schemas.openxmlformats.org/officeDocument/2006/relationships/slideLayout" Target="../slideLayouts/slideLayout380.xml"/><Relationship Id="rId13" Type="http://schemas.openxmlformats.org/officeDocument/2006/relationships/slideLayout" Target="../slideLayouts/slideLayout381.xml"/><Relationship Id="rId14" Type="http://schemas.openxmlformats.org/officeDocument/2006/relationships/slideLayout" Target="../slideLayouts/slideLayout382.xml"/><Relationship Id="rId15" Type="http://schemas.openxmlformats.org/officeDocument/2006/relationships/slideLayout" Target="../slideLayouts/slideLayout383.xml"/><Relationship Id="rId16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1B11-4361-40A9-9D05-40F0BB6F93F6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3E73-4A5C-4FDD-9EE9-7F5B1854D001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20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F5E5-1D85-4AA2-BBCD-B82F505E72CA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21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22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4F05-4D42-45C1-A882-89297F9A304A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23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F767-484D-44D0-B82B-3F3ED22E08EE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24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25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17D6-CF05-45B3-A84F-2E712F370645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26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E707-9987-4FAB-B9F8-336D3A1B989D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27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28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35CE-EF79-4949-BFAA-BC0560CDE79E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dt" idx="29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F6B0-251B-4713-AD25-EE801359BA7D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ftr" idx="30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sldNum" idx="31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B8F0-5EC8-48F4-8F60-7D975AC81DD7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32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CBB3-BF29-45D0-93F5-C00E7FC06CCB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33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34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45CB-6560-42CC-8C59-21A8D34F54B5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35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4F2B-5E24-42CB-8003-C60D465C2E47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36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37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F908-EF89-411F-B327-AF6AAB15C12E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38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EC92-DF01-4CEF-850E-D5844EC57985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39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0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64FF-2CA0-4DF2-9C3C-3FDC4834F87A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dt" idx="4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9438-BA3D-4A00-BF34-912E6CD1DF67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ftr" idx="42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sldNum" idx="43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EE3D-90BE-4AEA-B1FF-9837CEAA1624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868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44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2421-40FD-4050-BC91-F8820AF5C4B5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45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46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06FF-BBED-434B-A793-FB14C2615B36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0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911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2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913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4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5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6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7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8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9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0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1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2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3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4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5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6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7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8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9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0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1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2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3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4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5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6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7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8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9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0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1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2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3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4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5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6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7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8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9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50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51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52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53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54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8"/>
    <p:sldLayoutId id="2147483884" r:id="rId9"/>
    <p:sldLayoutId id="2147483885" r:id="rId10"/>
    <p:sldLayoutId id="2147483886" r:id="rId11"/>
    <p:sldLayoutId id="2147483887" r:id="rId12"/>
    <p:sldLayoutId id="2147483888" r:id="rId13"/>
    <p:sldLayoutId id="2147483889" r:id="rId14"/>
    <p:sldLayoutId id="2147483890" r:id="rId15"/>
    <p:sldLayoutId id="2147483891" r:id="rId16"/>
    <p:sldLayoutId id="2147483892" r:id="rId17"/>
    <p:sldLayoutId id="2147483893" r:id="rId18"/>
    <p:sldLayoutId id="2147483894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44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46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48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49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0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1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2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3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4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5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6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7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8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9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0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1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2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3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4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5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6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7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8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9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0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1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2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3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4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5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6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1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2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3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4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5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6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7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90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91" name="Picture 148" descr="logo small"/>
            <p:cNvPicPr/>
            <p:nvPr/>
          </p:nvPicPr>
          <p:blipFill>
            <a:blip r:embed="rId8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93" name="Picture 23" descr="dd"/>
            <p:cNvPicPr/>
            <p:nvPr/>
          </p:nvPicPr>
          <p:blipFill>
            <a:blip r:embed="rId9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5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6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7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8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9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4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5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6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7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8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9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0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1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6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7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8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9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0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1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2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3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4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5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6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7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8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9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0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1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2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3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4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3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994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5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996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7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98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99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0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1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2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3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4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5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6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7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8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9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0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1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2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3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4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5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6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7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8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9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0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1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2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3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4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5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6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7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8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9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0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1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2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3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4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5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6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7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8"/>
    <p:sldLayoutId id="2147483897" r:id="rId9"/>
    <p:sldLayoutId id="2147483898" r:id="rId10"/>
    <p:sldLayoutId id="2147483899" r:id="rId11"/>
    <p:sldLayoutId id="2147483900" r:id="rId12"/>
    <p:sldLayoutId id="2147483901" r:id="rId13"/>
    <p:sldLayoutId id="2147483902" r:id="rId14"/>
    <p:sldLayoutId id="2147483903" r:id="rId15"/>
    <p:sldLayoutId id="2147483904" r:id="rId16"/>
    <p:sldLayoutId id="2147483905" r:id="rId17"/>
    <p:sldLayoutId id="2147483906" r:id="rId18"/>
    <p:sldLayoutId id="2147483907" r:id="rId19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dt" idx="4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EE30-43F9-4700-9B89-1B2447E0D3AF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ftr" idx="4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 type="sldNum" idx="4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77A6-7925-4CC6-80E6-EAD8A9535F4F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9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1120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1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1122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3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4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5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6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7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8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9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0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1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2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3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4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5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6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7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8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9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0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1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2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3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4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5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6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7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8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9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0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1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2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3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4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5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6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7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8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9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60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61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62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63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8"/>
    <p:sldLayoutId id="2147483923" r:id="rId9"/>
    <p:sldLayoutId id="2147483924" r:id="rId10"/>
    <p:sldLayoutId id="2147483925" r:id="rId11"/>
    <p:sldLayoutId id="2147483926" r:id="rId12"/>
    <p:sldLayoutId id="2147483927" r:id="rId13"/>
    <p:sldLayoutId id="2147483928" r:id="rId14"/>
    <p:sldLayoutId id="2147483929" r:id="rId15"/>
    <p:sldLayoutId id="2147483930" r:id="rId16"/>
    <p:sldLayoutId id="2147483931" r:id="rId17"/>
    <p:sldLayoutId id="2147483932" r:id="rId18"/>
    <p:sldLayoutId id="2147483933" r:id="rId19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20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204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 type="dt" idx="50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7ED5-E6A3-49CE-9905-B4F66AFE3BE9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 type="ftr" idx="51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 type="sldNum" idx="52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CEFC-CEB8-4AA8-BCAB-EF494502ABF1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24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248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 type="dt" idx="53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D115-A438-4640-AD16-C4A09FA1420D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 type="ftr" idx="54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 type="sldNum" idx="55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FB3D-22D5-4E1B-BBC5-B7605F9D3C31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29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292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 type="dt" idx="56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2065-EED1-40EE-A890-99E7936006CE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 type="ftr" idx="57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 type="sldNum" idx="58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8213-00A8-4452-B91B-149D3A500BBF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 type="dt" idx="59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192A-634C-43D8-8BB3-5AA124415C3C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 type="ftr" idx="60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 type="sldNum" idx="61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1E09-8572-45A7-BB07-8460BB1AD198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8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379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380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 type="dt" idx="62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A794-43EC-461A-AEF1-F30E1452E68B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 type="ftr" idx="63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 type="sldNum" idx="64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852E-5E66-4A9C-BA80-46116CAF8893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42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424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 type="dt" idx="65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9CE1-B619-4943-AD9C-2918AE469929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 type="ftr" idx="66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 type="sldNum" idx="67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D449-69F3-4D46-B6D1-162300CDF82F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 type="dt" idx="68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B79E-1763-46A0-A9B0-E9E8E7455F28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 type="ftr" idx="69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 type="sldNum" idx="70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FE1B-1858-4721-A447-234363E7F12A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3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DF03-A651-4F67-988E-89BF45850CE1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4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5"/>
          </p:nvPr>
        </p:nvSpPr>
        <p:spPr>
          <a:xfrm>
            <a:off x="7164360" y="6453000"/>
            <a:ext cx="16509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12E4-9DA8-4721-B761-3E53B5BFEF23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51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512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 type="dt" idx="7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768C-96CF-4EED-AFC5-B7124F0B02F7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 type="ftr" idx="72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 type="sldNum" idx="73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6AFD-5CD7-4BEC-BE0F-141583343E4F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55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556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 type="dt" idx="74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8DB5-341E-492F-9CDE-FCE41D7AA340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 type="ftr" idx="75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61" name="PlaceHolder 5"/>
          <p:cNvSpPr>
            <a:spLocks noGrp="1"/>
          </p:cNvSpPr>
          <p:nvPr>
            <p:ph type="sldNum" idx="76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D60C-546A-4ED8-99EB-D5376908D092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8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599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600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 type="dt" idx="77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0D80-C1A0-4F53-8E68-FF4174C8FC0D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 type="ftr" idx="78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05" name="PlaceHolder 5"/>
          <p:cNvSpPr>
            <a:spLocks noGrp="1"/>
          </p:cNvSpPr>
          <p:nvPr>
            <p:ph type="sldNum" idx="79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51A9-B15F-462C-A87C-68584449831C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5"/>
    <p:sldLayoutId id="2147484053" r:id="rId6"/>
    <p:sldLayoutId id="2147484054" r:id="rId7"/>
    <p:sldLayoutId id="2147484055" r:id="rId8"/>
    <p:sldLayoutId id="2147484056" r:id="rId9"/>
    <p:sldLayoutId id="2147484057" r:id="rId10"/>
    <p:sldLayoutId id="2147484058" r:id="rId11"/>
    <p:sldLayoutId id="2147484059" r:id="rId12"/>
    <p:sldLayoutId id="2147484060" r:id="rId13"/>
    <p:sldLayoutId id="2147484061" r:id="rId14"/>
    <p:sldLayoutId id="2147484062" r:id="rId15"/>
    <p:sldLayoutId id="2147484063" r:id="rId16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 type="dt" idx="80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BF4D-CA07-4427-B303-2BD8A1302329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 type="ftr" idx="81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49" name="PlaceHolder 5"/>
          <p:cNvSpPr>
            <a:spLocks noGrp="1"/>
          </p:cNvSpPr>
          <p:nvPr>
            <p:ph type="sldNum" idx="82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5713-8949-49C9-8BC3-084CB945B452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6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AA04-9591-481B-BA19-F2E8B4D75BA1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7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8"/>
          </p:nvPr>
        </p:nvSpPr>
        <p:spPr>
          <a:xfrm>
            <a:off x="7164360" y="6453000"/>
            <a:ext cx="16509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8995-2FEB-431A-8A96-51D7738C0633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9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4955-C7AB-4FF8-9DBE-0CE3BAD85084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sldNum" idx="10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8E93-21BF-40F7-8F4B-6F0E6325A419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BD46-F2D4-40BF-80CB-62697E2E6B95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B919-F1C7-4F87-8F9C-09552E775D35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344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346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48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49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0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1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2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3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4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5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6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7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8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9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0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1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2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3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4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5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6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7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8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9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0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1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2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3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4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5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6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7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8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9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0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1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2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3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4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5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6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7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14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36E5-1210-4103-8D1F-347E816470D8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15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16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AAA4-769C-4E4A-8EEC-360AFA94F490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17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4B5F-B44B-4A84-B3E6-033D4ED7EBED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18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19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1D9E-40B9-4684-BFEC-E1879FD1BC53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Rectangle 2"/>
          <p:cNvSpPr/>
          <p:nvPr/>
        </p:nvSpPr>
        <p:spPr>
          <a:xfrm>
            <a:off x="0" y="0"/>
            <a:ext cx="3059280" cy="6858000"/>
          </a:xfrm>
          <a:prstGeom prst="rect">
            <a:avLst/>
          </a:prstGeom>
          <a:solidFill>
            <a:srgbClr val="0038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1694" name="Group 162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1695" name="Picture 23" descr="dd"/>
            <p:cNvPicPr/>
            <p:nvPr/>
          </p:nvPicPr>
          <p:blipFill>
            <a:blip r:embed="rId1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6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697" name="Group 155"/>
          <p:cNvGrpSpPr/>
          <p:nvPr/>
        </p:nvGrpSpPr>
        <p:grpSpPr>
          <a:xfrm>
            <a:off x="257040" y="1201680"/>
            <a:ext cx="2482920" cy="2444760"/>
            <a:chOff x="257040" y="1201680"/>
            <a:chExt cx="2482920" cy="2444760"/>
          </a:xfrm>
        </p:grpSpPr>
        <p:sp>
          <p:nvSpPr>
            <p:cNvPr id="1698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99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00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01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02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03" name="Oval 102"/>
          <p:cNvGrpSpPr/>
          <p:nvPr/>
        </p:nvGrpSpPr>
        <p:grpSpPr>
          <a:xfrm>
            <a:off x="438120" y="1359000"/>
            <a:ext cx="2158920" cy="2176200"/>
            <a:chOff x="438120" y="1359000"/>
            <a:chExt cx="2158920" cy="2176200"/>
          </a:xfrm>
        </p:grpSpPr>
        <p:pic>
          <p:nvPicPr>
            <p:cNvPr id="1704" name="Oval 102" descr=""/>
            <p:cNvPicPr/>
            <p:nvPr/>
          </p:nvPicPr>
          <p:blipFill>
            <a:blip r:embed="rId2"/>
            <a:stretch/>
          </p:blipFill>
          <p:spPr>
            <a:xfrm>
              <a:off x="438120" y="1359000"/>
              <a:ext cx="2158920" cy="21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5" name=""/>
            <p:cNvSpPr/>
            <p:nvPr/>
          </p:nvSpPr>
          <p:spPr>
            <a:xfrm>
              <a:off x="752400" y="1679400"/>
              <a:ext cx="1530360" cy="15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06" name="Group 156"/>
          <p:cNvGrpSpPr/>
          <p:nvPr/>
        </p:nvGrpSpPr>
        <p:grpSpPr>
          <a:xfrm>
            <a:off x="171360" y="1201680"/>
            <a:ext cx="2643120" cy="2494080"/>
            <a:chOff x="171360" y="1201680"/>
            <a:chExt cx="2643120" cy="2494080"/>
          </a:xfrm>
        </p:grpSpPr>
        <p:sp>
          <p:nvSpPr>
            <p:cNvPr id="1707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08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09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10" name="Group 146"/>
          <p:cNvGrpSpPr/>
          <p:nvPr/>
        </p:nvGrpSpPr>
        <p:grpSpPr>
          <a:xfrm>
            <a:off x="912960" y="620640"/>
            <a:ext cx="1284120" cy="1260720"/>
            <a:chOff x="912960" y="620640"/>
            <a:chExt cx="1284120" cy="1260720"/>
          </a:xfrm>
        </p:grpSpPr>
        <p:sp>
          <p:nvSpPr>
            <p:cNvPr id="1711" name="Oval 147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2" name="Oval 148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3" name="Oval 149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4" name="Oval 150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5" name="Oval 151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6" name="Oval 152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7" name="Oval 153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8" name="Oval 154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19" name="Oval 118"/>
          <p:cNvGrpSpPr/>
          <p:nvPr/>
        </p:nvGrpSpPr>
        <p:grpSpPr>
          <a:xfrm>
            <a:off x="974880" y="706320"/>
            <a:ext cx="1109520" cy="1109880"/>
            <a:chOff x="974880" y="706320"/>
            <a:chExt cx="1109520" cy="1109880"/>
          </a:xfrm>
        </p:grpSpPr>
        <p:pic>
          <p:nvPicPr>
            <p:cNvPr id="1720" name="Oval 118" descr=""/>
            <p:cNvPicPr/>
            <p:nvPr/>
          </p:nvPicPr>
          <p:blipFill>
            <a:blip r:embed="rId3"/>
            <a:stretch/>
          </p:blipFill>
          <p:spPr>
            <a:xfrm>
              <a:off x="974880" y="706320"/>
              <a:ext cx="110952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1" name=""/>
            <p:cNvSpPr/>
            <p:nvPr/>
          </p:nvSpPr>
          <p:spPr>
            <a:xfrm>
              <a:off x="1138320" y="870120"/>
              <a:ext cx="7840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22" name="Group 145"/>
          <p:cNvGrpSpPr/>
          <p:nvPr/>
        </p:nvGrpSpPr>
        <p:grpSpPr>
          <a:xfrm>
            <a:off x="863640" y="620640"/>
            <a:ext cx="1369800" cy="1284480"/>
            <a:chOff x="863640" y="620640"/>
            <a:chExt cx="1369800" cy="1284480"/>
          </a:xfrm>
        </p:grpSpPr>
        <p:sp>
          <p:nvSpPr>
            <p:cNvPr id="1723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24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25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26" name="Group 157"/>
          <p:cNvGrpSpPr/>
          <p:nvPr/>
        </p:nvGrpSpPr>
        <p:grpSpPr>
          <a:xfrm>
            <a:off x="331920" y="3090960"/>
            <a:ext cx="2074680" cy="2038320"/>
            <a:chOff x="331920" y="3090960"/>
            <a:chExt cx="2074680" cy="2038320"/>
          </a:xfrm>
        </p:grpSpPr>
        <p:sp>
          <p:nvSpPr>
            <p:cNvPr id="1727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28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29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30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31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32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33" name="Oval 128"/>
          <p:cNvGrpSpPr/>
          <p:nvPr/>
        </p:nvGrpSpPr>
        <p:grpSpPr>
          <a:xfrm>
            <a:off x="480960" y="3224160"/>
            <a:ext cx="1805040" cy="1817640"/>
            <a:chOff x="480960" y="3224160"/>
            <a:chExt cx="1805040" cy="1817640"/>
          </a:xfrm>
        </p:grpSpPr>
        <p:pic>
          <p:nvPicPr>
            <p:cNvPr id="1734" name="Oval 128" descr=""/>
            <p:cNvPicPr/>
            <p:nvPr/>
          </p:nvPicPr>
          <p:blipFill>
            <a:blip r:embed="rId4"/>
            <a:stretch/>
          </p:blipFill>
          <p:spPr>
            <a:xfrm>
              <a:off x="480960" y="3224160"/>
              <a:ext cx="180504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5" name=""/>
            <p:cNvSpPr/>
            <p:nvPr/>
          </p:nvSpPr>
          <p:spPr>
            <a:xfrm>
              <a:off x="746280" y="3492360"/>
              <a:ext cx="1274760" cy="12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36" name="Group 158"/>
          <p:cNvGrpSpPr/>
          <p:nvPr/>
        </p:nvGrpSpPr>
        <p:grpSpPr>
          <a:xfrm>
            <a:off x="257040" y="3090960"/>
            <a:ext cx="2211480" cy="2087640"/>
            <a:chOff x="257040" y="3090960"/>
            <a:chExt cx="2211480" cy="2087640"/>
          </a:xfrm>
        </p:grpSpPr>
        <p:sp>
          <p:nvSpPr>
            <p:cNvPr id="1737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38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39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40" name="Group 159"/>
          <p:cNvGrpSpPr/>
          <p:nvPr/>
        </p:nvGrpSpPr>
        <p:grpSpPr>
          <a:xfrm>
            <a:off x="900000" y="4684680"/>
            <a:ext cx="1717920" cy="1692360"/>
            <a:chOff x="900000" y="4684680"/>
            <a:chExt cx="1717920" cy="1692360"/>
          </a:xfrm>
        </p:grpSpPr>
        <p:sp>
          <p:nvSpPr>
            <p:cNvPr id="1741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42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43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44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45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46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47" name="Oval 138"/>
          <p:cNvGrpSpPr/>
          <p:nvPr/>
        </p:nvGrpSpPr>
        <p:grpSpPr>
          <a:xfrm>
            <a:off x="1011240" y="4791240"/>
            <a:ext cx="1512720" cy="1517400"/>
            <a:chOff x="1011240" y="4791240"/>
            <a:chExt cx="1512720" cy="1517400"/>
          </a:xfrm>
        </p:grpSpPr>
        <p:pic>
          <p:nvPicPr>
            <p:cNvPr id="1748" name="Oval 138" descr=""/>
            <p:cNvPicPr/>
            <p:nvPr/>
          </p:nvPicPr>
          <p:blipFill>
            <a:blip r:embed="rId5"/>
            <a:stretch/>
          </p:blipFill>
          <p:spPr>
            <a:xfrm>
              <a:off x="1011240" y="4791240"/>
              <a:ext cx="1512720" cy="151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9" name=""/>
            <p:cNvSpPr/>
            <p:nvPr/>
          </p:nvSpPr>
          <p:spPr>
            <a:xfrm>
              <a:off x="1235160" y="5013360"/>
              <a:ext cx="106524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50" name="Group 160"/>
          <p:cNvGrpSpPr/>
          <p:nvPr/>
        </p:nvGrpSpPr>
        <p:grpSpPr>
          <a:xfrm>
            <a:off x="838080" y="4684680"/>
            <a:ext cx="1828800" cy="1728720"/>
            <a:chOff x="838080" y="4684680"/>
            <a:chExt cx="1828800" cy="1728720"/>
          </a:xfrm>
        </p:grpSpPr>
        <p:sp>
          <p:nvSpPr>
            <p:cNvPr id="1751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52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53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754" name="Date Placeholder 1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AEC8-10C0-4B0C-8269-3505E9CE124C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55" name="Slide Number Placeholder 4"/>
          <p:cNvSpPr/>
          <p:nvPr/>
        </p:nvSpPr>
        <p:spPr>
          <a:xfrm>
            <a:off x="7196040" y="6553080"/>
            <a:ext cx="165096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541A-9D8F-4267-916C-9FB9E4480AAC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56" name="Rectangle 59"/>
          <p:cNvSpPr/>
          <p:nvPr/>
        </p:nvSpPr>
        <p:spPr>
          <a:xfrm>
            <a:off x="3032280" y="1084320"/>
            <a:ext cx="61736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725b"/>
                </a:solidFill>
                <a:latin typeface="Arial"/>
              </a:rPr>
              <a:t>CLARIFICATION  MEETING: QM58 CATEGORY 4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3896"/>
                </a:solidFill>
                <a:latin typeface="Arial"/>
              </a:rPr>
              <a:t>TENDER NO: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ace planning and interior design consultants at MWP, EAL And ERIC Building in Rosherville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DATE: 2022/09/16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725b"/>
                </a:solidFill>
                <a:latin typeface="Arial"/>
              </a:rPr>
              <a:t>Bongi Tshabalala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58" name=""/>
          <p:cNvSpPr txBox="1"/>
          <p:nvPr/>
        </p:nvSpPr>
        <p:spPr>
          <a:xfrm>
            <a:off x="107640" y="1125000"/>
            <a:ext cx="8707320" cy="53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460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Copy  of the Category 4 Quality requirement 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Category4 Quality Requirement - Explanation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Completion of : </a:t>
            </a: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A1 Method Statement and E:Form A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Templates</a:t>
            </a: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: A1 Method Statement and E:Form A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59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155C-9A85-4022-82AB-236A73BF5B50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60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9700-B396-4468-89AB-F501920F68C3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y  of  Quality Requirement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62" name="Slide Number Placeholder 3"/>
          <p:cNvSpPr/>
          <p:nvPr/>
        </p:nvSpPr>
        <p:spPr>
          <a:xfrm>
            <a:off x="3132000" y="6453360"/>
            <a:ext cx="2880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9239-7C20-4218-9EAA-10BD179DA415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pic>
        <p:nvPicPr>
          <p:cNvPr id="1763" name="Picture 5" descr=""/>
          <p:cNvPicPr/>
          <p:nvPr/>
        </p:nvPicPr>
        <p:blipFill>
          <a:blip r:embed="rId1"/>
          <a:stretch/>
        </p:blipFill>
        <p:spPr>
          <a:xfrm>
            <a:off x="217440" y="1341360"/>
            <a:ext cx="8242200" cy="5129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3698-3BBD-4B1D-B581-52209423FD48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65" name="Slide Number Placeholder 5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BEC0-F59F-48D3-91A7-65B9D31CCDF5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701496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 Out  standing Quality Requirement  - Category 4</a:t>
            </a:r>
            <a:endParaRPr b="0" lang="en-US" sz="2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67" name="Rectangle 2"/>
          <p:cNvSpPr/>
          <p:nvPr/>
        </p:nvSpPr>
        <p:spPr>
          <a:xfrm>
            <a:off x="30240" y="1011240"/>
            <a:ext cx="878508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03896"/>
                </a:solidFill>
                <a:latin typeface="Arial"/>
                <a:ea typeface="Calibri"/>
              </a:rPr>
              <a:t>SECTION A:  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A.1  Quality Method statement based on scope. -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NB  Use   Eskom Quality Method  Template as a guide.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	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(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</a:t>
            </a:r>
            <a:r>
              <a:rPr b="1" lang="en-GB" sz="1400" spc="-1" strike="noStrike">
                <a:solidFill>
                  <a:srgbClr val="003896"/>
                </a:solidFill>
                <a:latin typeface="Arial"/>
                <a:ea typeface="Times New Roman"/>
              </a:rPr>
              <a:t>240-126469599: </a:t>
            </a:r>
            <a:r>
              <a:rPr b="1" lang="en-GB" sz="1400" spc="-1" strike="noStrike">
                <a:solidFill>
                  <a:srgbClr val="003896"/>
                </a:solidFill>
                <a:latin typeface="Arial"/>
                <a:ea typeface="Calibri"/>
              </a:rPr>
              <a:t>Method Statement Template)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A.2 Quality Policy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Approved by top 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management. 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96"/>
                </a:solidFill>
                <a:latin typeface="Arial"/>
              </a:rPr>
              <a:t>Commitment to: meet customer requirements / expectations; continual improvement; satisfying all applicable requirements including statutory requirements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A.3 Quality Objectives (KPAs/KPIs)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Approved by 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top management.(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SMART)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	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03896"/>
                </a:solidFill>
                <a:latin typeface="Arial"/>
                <a:ea typeface="Calibri"/>
              </a:rPr>
              <a:t>SECTION B: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B.1 Documented information for defined roles, responsibilities and authorities (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Organization chart  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/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Organogram and  Responsibility Matrix 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(must include but not limited to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quality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management function/role) (Clause 5.3 of ISO 9001:2015) 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	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B.2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Documented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information for Control of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Externally Provided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Processes, Products and Services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2" marL="85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(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 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Describe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 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how you  ensure that work completed by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external parties ( Sub-Contractor, Suppliers, Consultants, etc) 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comply with the requirements)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2" marL="85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Must include criteria for evaluation, selection, monitoring of performance, and re-evaluation of external providers (Clause 8.4 of ISO 9001:2015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2" marL="85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03896"/>
                </a:solidFill>
                <a:latin typeface="Arial"/>
                <a:ea typeface="Calibri"/>
              </a:rPr>
              <a:t>SECTION C: </a:t>
            </a:r>
            <a:r>
              <a:rPr b="1" lang="en-ZA" sz="1400" spc="-1" strike="noStrike">
                <a:solidFill>
                  <a:srgbClr val="ff0000"/>
                </a:solidFill>
                <a:latin typeface="Arial"/>
                <a:ea typeface="Calibri"/>
              </a:rPr>
              <a:t> To Complete and Sign </a:t>
            </a:r>
            <a:r>
              <a:rPr b="1" lang="en-ZA" sz="1400" spc="-1" strike="noStrike">
                <a:solidFill>
                  <a:srgbClr val="003896"/>
                </a:solidFill>
                <a:latin typeface="Arial"/>
                <a:ea typeface="Calibri"/>
              </a:rPr>
              <a:t>Form A  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- A1: Method Statement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graphicFrame>
        <p:nvGraphicFramePr>
          <p:cNvPr id="1769" name=""/>
          <p:cNvGraphicFramePr/>
          <p:nvPr/>
        </p:nvGraphicFramePr>
        <p:xfrm>
          <a:off x="179280" y="1052640"/>
          <a:ext cx="8425080" cy="5499000"/>
        </p:xfrm>
        <a:graphic>
          <a:graphicData uri="http://schemas.openxmlformats.org/drawingml/2006/table">
            <a:tbl>
              <a:tblPr/>
              <a:tblGrid>
                <a:gridCol w="3240360"/>
                <a:gridCol w="1728720"/>
                <a:gridCol w="936360"/>
                <a:gridCol w="638280"/>
                <a:gridCol w="297000"/>
                <a:gridCol w="720720"/>
                <a:gridCol w="863640"/>
              </a:tblGrid>
              <a:tr h="526680">
                <a:tc rowSpan="4"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od statement  Title </a:t>
                      </a: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( Title as per tender/RFQ title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ll Name</a:t>
                      </a: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( Supplier Representative Details 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iginated by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49320" rIns="49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viewed by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if applicable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roved by: </a:t>
                      </a: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if applicable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ignation ( of the compiler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9320" rIns="49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ct No ( of the compiler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ient </a:t>
                      </a: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(Division/Operating/ Business Unit as per tender RFQ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ender /RFQ Number/ Contract Number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gridSpan="4"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vity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gridSpan="3">
                  <a:txBody>
                    <a:bodyPr lIns="49320" rIns="49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Detailed Description (type in the information required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ference Document/ Procedure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ea /        Dept./  Discipline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0020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ope of work as described in the contract </a:t>
                      </a:r>
                      <a:r>
                        <a:rPr b="0" lang="en-GB" sz="10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document/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der/ tender 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Outline the scope of work as detailed in the Works Information of the NEC document/ RFQ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 Narrow"/>
                          <a:ea typeface="Times New Roman"/>
                        </a:rPr>
                        <a:t>Note the relevant document ref number ( if available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 Narrow"/>
                          <a:ea typeface="Times New Roman"/>
                        </a:rPr>
                        <a:t>Relevant discipline (if any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28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jectives/ Outputs / contract objectives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List 2-3 objectives  (SMART) in relation to the SOW outputs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Customer Focus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- The primary focus of quality management is to meet customer requirements and to strive to exceed customer expectations. How are customer needs identified, and effectively communicated to affected personnel?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How are customer needs identified, and effectively communicated to affected personnel in the organisation?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Competency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empowering and engaging people throughout the organization to enhance its capability to create value. What Human Resources, training and authority are required for delivering this SOW?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Provide details of skills/ competencies and training required to deliver the tender/order Scope of work?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36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 u="sng">
                          <a:solidFill>
                            <a:srgbClr val="003896"/>
                          </a:solidFill>
                          <a:uFillTx/>
                          <a:latin typeface="Arial"/>
                          <a:ea typeface="Times New Roman"/>
                        </a:rPr>
                        <a:t>Infrastructure:</a:t>
                      </a:r>
                      <a:r>
                        <a:rPr b="0" lang="en-GB" sz="10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 PPE required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PPE that is required in executing  the scope of work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0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D421-0447-4D95-9CF3-5C1B19ED906E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1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7DB7-CF42-4B76-9EEF-1107CC12074B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2" name="TextBox 2"/>
          <p:cNvSpPr/>
          <p:nvPr/>
        </p:nvSpPr>
        <p:spPr>
          <a:xfrm rot="19546800">
            <a:off x="2463120" y="3479760"/>
            <a:ext cx="706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o be Completed</a:t>
            </a:r>
            <a:endParaRPr b="0" lang="en-US" sz="32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F6DD-8E28-4D34-BC4C-F8CE50DA4378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4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B2B1-7EED-47CB-9506-4D23B8F7B117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pic>
        <p:nvPicPr>
          <p:cNvPr id="1775" name="Picture 7" descr=""/>
          <p:cNvPicPr/>
          <p:nvPr/>
        </p:nvPicPr>
        <p:blipFill>
          <a:blip r:embed="rId1"/>
          <a:srcRect l="36946" t="32564" r="35349" b="14710"/>
          <a:stretch/>
        </p:blipFill>
        <p:spPr>
          <a:xfrm>
            <a:off x="1652760" y="1125360"/>
            <a:ext cx="5079960" cy="5661360"/>
          </a:xfrm>
          <a:prstGeom prst="rect">
            <a:avLst/>
          </a:prstGeom>
          <a:ln w="0">
            <a:noFill/>
          </a:ln>
        </p:spPr>
      </p:pic>
      <p:sp>
        <p:nvSpPr>
          <p:cNvPr id="1776" name="TextBox 1"/>
          <p:cNvSpPr/>
          <p:nvPr/>
        </p:nvSpPr>
        <p:spPr>
          <a:xfrm>
            <a:off x="2735280" y="1079640"/>
            <a:ext cx="52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omplete  here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7" name="TextBox 1"/>
          <p:cNvSpPr/>
          <p:nvPr/>
        </p:nvSpPr>
        <p:spPr>
          <a:xfrm>
            <a:off x="2987640" y="6330960"/>
            <a:ext cx="52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omplete and sign here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–E Form A completion and signing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FA82-D458-42B9-89D4-A9F09032C61B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80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A603-4646-4A89-A4FA-2665E124AD84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graphicFrame>
        <p:nvGraphicFramePr>
          <p:cNvPr id="1781" name=""/>
          <p:cNvGraphicFramePr/>
          <p:nvPr/>
        </p:nvGraphicFramePr>
        <p:xfrm>
          <a:off x="469800" y="1268280"/>
          <a:ext cx="7458120" cy="3816360"/>
        </p:xfrm>
        <a:graphic>
          <a:graphicData uri="http://schemas.openxmlformats.org/drawingml/2006/table">
            <a:tbl>
              <a:tblPr/>
              <a:tblGrid>
                <a:gridCol w="5821560"/>
                <a:gridCol w="1636560"/>
              </a:tblGrid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mplates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9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tachments 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96"/>
                    </a:solidFill>
                  </a:tcPr>
                </a:tc>
              </a:tr>
              <a:tr h="482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</a:tr>
              <a:tr h="885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Quality Requirements / Evaluation Criteria – category 4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Tender Portal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</a:tr>
              <a:tr h="863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A.1: Method Statement 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f"/>
                    </a:solidFill>
                  </a:tcPr>
                </a:tc>
              </a:tr>
              <a:tr h="1008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E: Form A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Tender Portal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</a:tr>
            </a:tbl>
          </a:graphicData>
        </a:graphic>
      </p:graphicFrame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. Templates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graphicFrame>
        <p:nvGraphicFramePr>
          <p:cNvPr id="1783" name="Object 3"/>
          <p:cNvGraphicFramePr/>
          <p:nvPr/>
        </p:nvGraphicFramePr>
        <p:xfrm>
          <a:off x="6681960" y="3357720"/>
          <a:ext cx="914400" cy="62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960" y="3357720"/>
                    <a:ext cx="914400" cy="62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86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FD34-B8B3-4C59-B73C-B5B170CB2F95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87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FE2C-7BC5-4ED6-9D34-F3D01924B1A0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pic>
        <p:nvPicPr>
          <p:cNvPr id="1788" name="Picture 5" descr=""/>
          <p:cNvPicPr/>
          <p:nvPr/>
        </p:nvPicPr>
        <p:blipFill>
          <a:blip r:embed="rId1"/>
          <a:stretch/>
        </p:blipFill>
        <p:spPr>
          <a:xfrm>
            <a:off x="2771640" y="2205000"/>
            <a:ext cx="316872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8:15:51Z</dcterms:created>
  <dc:creator>engelight</dc:creator>
  <dc:description/>
  <dc:language>en-US</dc:language>
  <cp:lastModifiedBy>Bongi Tshabalala</cp:lastModifiedBy>
  <cp:lastPrinted>2019-02-20T13:05:04Z</cp:lastPrinted>
  <dcterms:modified xsi:type="dcterms:W3CDTF">2022-09-19T10:58:40Z</dcterms:modified>
  <cp:revision>944</cp:revision>
  <dc:subject/>
  <dc:title>Slide 1</dc:title>
</cp:coreProperties>
</file>